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BEF4-A6A0-4370-8F54-56ACAB341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72C6-B4DD-4431-96B9-FBC4C089DC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1A24-233B-413B-8D6E-F8CADAA87B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E1E4-5B95-450A-A258-998A66C85D0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8C9B-763C-4F07-9FFF-9FB836D0C5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BA64-DAAF-4365-9C8F-FB9995B056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43A-D032-4B47-ACF2-E4CB2B6A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588-E9F3-474B-A874-AA5C6324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BE0120-BA14-430E-B497-B6B1C5D6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6601FC-86F7-4616-B6D0-F83D968F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3AF6C8-D642-43A4-96F9-AB4BE75E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5ACCCB-CCF0-4622-B13B-AC060257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990897-AA4D-43FB-A401-F3FDB4E7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5AF990-B401-4083-A311-4983353F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B97AFA-14F5-4424-AA6F-3F1FB0CC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DCB647-FDA2-4B74-8F14-95CDA550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15EF5D-59FC-49F5-B687-282F1F42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1D596-C5DC-405C-B77F-5DB717C2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2160-A3E6-4990-B4DD-992FD018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5BD6D-9AD6-4F68-8FB1-1AEB7D2D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5CD4C-2F97-47B9-966E-BB68FAF8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B3E0F-795F-4182-8180-AD2D8CC4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55258-5AE1-4B6B-ABD7-0590C00B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37EAD-D4D0-44D3-9A70-A293CBCF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C4331-981C-49BE-A9E6-8FDC79E7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4C780-AA05-4854-A189-E1CB612F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BF88F-1798-485D-B88F-F0780F62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02030-BCE6-4F74-9C85-2CF6C5D1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10A78-9ECB-4FFE-8F35-6DF439F3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B78-F3F9-4390-ACC9-41D30478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BF777-9670-45BC-BEA4-9CE8B7E8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4D024-E729-4AE9-9BC8-40DB1DE6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74184-26CB-4A73-862E-637917A5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75182-BF57-4EFA-B13A-7E9776CF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4D6ED-6FEF-4DD7-91D5-C0427650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9548B-6D8F-4DF4-AFA2-B7EC9FAB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BBA01-6FA9-478C-81EA-7A99E0BF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CAE47-30F1-4607-89C6-19E40F48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38622-6A44-4ABC-99AA-BAC508A5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6131B-A16A-4897-8ED7-6B55646C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2735F-9A82-43C6-819C-3A5F4077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36FE0-6183-4652-B175-04A39899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C1A92-88B5-418D-BAE7-E90A0552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21E7F-F055-438D-96A4-0FE01189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9F489-20D7-4292-B064-59F9C1DB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0F8F2-1870-4892-9A97-66E9A367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9C24C-A30D-4AD3-9D9D-B0116525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7A73A-EE6A-4A04-8019-741C7C9A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50D79-047C-4C22-BBDD-D0CBF4B3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5C752-605B-4FC2-9F18-680B1A17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9294-144E-410E-8E0D-C1846230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D13DE-ADB0-410C-B3E6-3680AC45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CFDCB-1E0F-44A4-8CA1-204960E0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D0A82-EA57-45B9-A323-3F824CBC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EF467-0132-4241-B09A-46190238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47EDC-3962-4653-9655-3F57B94D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8AEC2-51B2-44D1-AED4-644AA859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CC3A7-7492-4CD3-8519-EAAB9143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60F00-59D3-4FDB-94A8-D8FB6E1D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05F8B-07B8-494B-9FDD-C6B08DA5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5ACDB-8649-43CF-8E7B-A562ADD6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367-5D63-49C0-B817-805FD39F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C239E-AFF5-40D5-ACD9-E50EE625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913AE-BA90-462C-AB5A-7A51196D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8FBD5-6ABC-40D9-98EB-033905A9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7B539-423B-464E-A701-14301020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F5295-653C-498F-8EDC-8B613AAF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24DAD-1825-4852-B777-E26EFD56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04F4F-91B4-40E7-8CAA-97D32170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0BE55C-BF37-48E1-946F-EB4A4424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BF2846-9E4E-4894-9016-94D2D812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38A15C-B2F0-4FCF-B5C7-5C23BE22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BE2-9503-4FEF-AFBF-BB35D00D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45177B-F78A-4A69-B3D4-39006C0D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0E51CD-D97D-41E5-BA7B-61B1BF49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0D4854-EB5C-4247-94BB-D9B42B95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276D14-6D09-42A3-987D-B2C1F063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08E8A-DC9C-415D-9B7E-31870C42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EFAE7D-8239-4141-A06F-4ADE896A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D1FF95-9F8F-4CE9-B2E0-A4216B96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5C49C7-73B2-4F80-AC68-AB41A846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202E4B-5E2A-4E08-A6BB-7F4A4DCE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FB9B6-42FF-417D-8AC2-3F7D1BB1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5E8D-2406-499D-8588-4FC39F6D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FDF9C-CF3B-47FB-BB00-619CDE92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4863E-2DC9-456C-BF69-F00F2756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D929C-A5B3-468E-92B6-3E4169D3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37DB5-F194-4783-B940-D3BF71D5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B3440-3F14-4BB3-926B-80E33849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616A6-F769-4A3F-A786-8FE5226B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EE963-4377-405E-989F-7FC99752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BED69-4BC4-4A49-B129-0D06FDB5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B11F9-258C-4488-9B8D-E8FE3A90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A5679-30BD-465C-A7A0-F04FE86D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E54-1875-43DE-956D-1D72DCD6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7160B-CD75-496C-9ABD-5211A187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4FB3B-3AA7-4EA7-8194-056802D7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55779-9FCD-4102-B0E7-032ADCD4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11D7D-731A-49C1-911D-337A07B8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D31B6-6EBB-4DB4-92F9-FEFF6431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64F20-E21E-47EC-9C26-CBD30BD0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7C300-1E02-41DF-98A9-C2FD0253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D1059-5F9D-41D9-83B2-9DD211CC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0DF02-8C26-4C02-954E-6675810B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1402C-1134-4801-BA9A-F4409028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A0E-0C74-4CDD-8AB6-02E1F541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D8C24-D602-4D51-BB0F-9345B426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021C8-4FE7-4639-B9BA-1F9C7BFF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EAB32-F977-4BBA-A43C-FFB77A83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41D4D-D538-4F1C-881F-D8A8139E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93E06-BC1D-45D2-B7B7-595C6243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73E7E-7F53-4962-94DF-8CEF11F0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50622-C711-444D-BBCE-F738649B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132AA-2EB5-4BAC-9328-21C85D7B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E4FB5-CCBE-4076-ABDD-38505F10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1AB5A-1E1C-41A9-840A-64645C7B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6A8-759B-4957-9935-D618B4A4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783D6-6355-4053-8F52-876FE240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F7736-A5AE-4225-939F-1A573435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74AEB-87B5-4442-A1C9-26C4A471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C6D3A-CD52-425A-8891-00B4DF2D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AB52B-83A9-4564-B91A-03DCDBD6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A34ECE-72C0-4876-88B5-2D8B5282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F7A693-39A8-494D-8830-7F040CF5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5ABFDF-B8BB-4E1E-88E3-AA034261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143D53-63B7-4410-99C9-BFD63C4D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B63618-62FE-464B-A37B-ACE6F286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9DA8-A379-44B8-98B5-70780E42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0ACC49-56D2-45F3-8B70-8034AAFC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3260A6-EED3-4C0C-8F81-6EE678FD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3ABA68-37F0-416F-BD06-7EADFD58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229708-88D4-4759-952B-45F0DD35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FAB5D5-9B80-4982-B995-74B86C62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A5041B-5344-4AD4-AF0D-747D7866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45FAE7-1DA0-431E-A692-6AB6D444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15D003-DF8A-495F-8A0A-0020D96E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F109B2-8EE8-4ACE-8850-CC6BA937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C1DA29-E6E0-4D3D-A957-A8AFCC29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04ED-8330-409A-8AB1-08046D4DF45C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 </a:t>
            </a:r>
            <a:fld id="{D33C7EF8-99B0-40C5-8C1F-7C6021EB8D3C}" type="datetime10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6:1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3037-E38C-4278-9EC1-1EE7CDD9893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9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AEB6-8E08-49FD-BD6D-60CB613B5BC5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 </a:t>
            </a:r>
            <a:fld id="{DC3C344F-D80C-409B-8A80-577B49A99D45}" type="datetime10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6:1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BE2F-B3A1-4752-BBFE-8411838C72E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8D9A-207F-4794-A23D-D8427E53460B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 </a:t>
            </a:r>
            <a:fld id="{EE92EAAF-64D9-44FE-90BD-B36E530A046C}" type="datetime10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6:1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E737-E246-4B66-BD2B-A9DDE9EF383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793A-C4C4-4F19-A5BB-B0236E25A035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 </a:t>
            </a:r>
            <a:fld id="{C113FDCD-DAD6-4148-B2D1-F01949927CCD}" type="datetime10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6:1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E165-FA15-46D5-83A2-4733CC4FCC8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09FA-2755-48CA-876C-86FA14691D6E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 </a:t>
            </a:r>
            <a:fld id="{5C3BDB6A-BDF5-4E70-BB34-F910D20B2AFD}" type="datetime10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6:1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56DC-7FC2-4224-BEB8-C527095D5CA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5150-00D4-45B5-9D39-869A5E91F2BC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 </a:t>
            </a:r>
            <a:fld id="{18018AF3-EF3C-4A3D-80EF-C103E9EF3EB5}" type="datetime10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6:1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5F44-68BD-4A57-B5A7-26AA836AAB0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603A-B86B-4E13-858D-59DE7246835D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 </a:t>
            </a:r>
            <a:fld id="{98F1379A-8575-46ED-BF83-921A0EB96EFB}" type="datetime10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6:1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9EEE-226D-4A14-BA8D-47EB5271834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5007-9629-479B-81B5-AAFA25157531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 </a:t>
            </a:r>
            <a:fld id="{E3AA7298-53E6-4F22-9A82-49486CF31C50}" type="datetime10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6:1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79C1-967F-40D7-AEC9-D90AFB604D7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8DE4-D468-4773-AA04-BBC7C05685A3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 </a:t>
            </a:r>
            <a:fld id="{DA5E567F-94C6-4BEF-B1B7-AF15519490D3}" type="datetime10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6:1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A729-DB82-4496-B22C-F4E9F64DB18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A671-6BFA-4D71-9223-9F0342AFB681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 </a:t>
            </a:r>
            <a:fld id="{426A29A0-9FD5-4CB3-AA0E-F5F8A4F49BFF}" type="datetime10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6:1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E7DB-9B57-4805-A9FA-0DDF1FFFA79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1B2E-74AB-4A2D-8B2E-05A1498987ED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1/26</a:t>
            </a:fld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 </a:t>
            </a:r>
            <a:fld id="{119F4646-789B-4BD8-B492-A6A53F5EF25A}" type="datetime10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6:1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BBB1-8B75-43AC-BBC4-D9BE09BCF63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Rectangle 1" descr=""/>
          <p:cNvPicPr/>
          <p:nvPr/>
        </p:nvPicPr>
        <p:blipFill>
          <a:blip r:embed="rId1"/>
          <a:stretch/>
        </p:blipFill>
        <p:spPr>
          <a:xfrm>
            <a:off x="907920" y="755640"/>
            <a:ext cx="8266320" cy="185436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1294920" y="7621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1" name="TextBox 3"/>
          <p:cNvSpPr/>
          <p:nvPr/>
        </p:nvSpPr>
        <p:spPr>
          <a:xfrm>
            <a:off x="838080" y="3429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JDTechCenter.wikispaces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3" descr=""/>
          <p:cNvPicPr/>
          <p:nvPr/>
        </p:nvPicPr>
        <p:blipFill>
          <a:blip r:embed="rId1"/>
          <a:srcRect l="0" t="0" r="3905" b="6250"/>
          <a:stretch/>
        </p:blipFill>
        <p:spPr>
          <a:xfrm>
            <a:off x="228600" y="228600"/>
            <a:ext cx="8643960" cy="6324480"/>
          </a:xfrm>
          <a:prstGeom prst="rect">
            <a:avLst/>
          </a:prstGeom>
          <a:ln w="0">
            <a:noFill/>
          </a:ln>
        </p:spPr>
      </p:pic>
      <p:sp>
        <p:nvSpPr>
          <p:cNvPr id="519" name="Oval 3"/>
          <p:cNvSpPr/>
          <p:nvPr/>
        </p:nvSpPr>
        <p:spPr>
          <a:xfrm>
            <a:off x="7772400" y="609480"/>
            <a:ext cx="1371600" cy="60984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Oval 4"/>
          <p:cNvSpPr/>
          <p:nvPr/>
        </p:nvSpPr>
        <p:spPr>
          <a:xfrm>
            <a:off x="304920" y="990720"/>
            <a:ext cx="1295280" cy="38088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5"/>
          <p:cNvSpPr/>
          <p:nvPr/>
        </p:nvSpPr>
        <p:spPr>
          <a:xfrm>
            <a:off x="0" y="3124080"/>
            <a:ext cx="1676520" cy="236232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6"/>
          <p:cNvSpPr/>
          <p:nvPr/>
        </p:nvSpPr>
        <p:spPr>
          <a:xfrm>
            <a:off x="1752480" y="762120"/>
            <a:ext cx="304920" cy="30456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3" descr=""/>
          <p:cNvPicPr/>
          <p:nvPr/>
        </p:nvPicPr>
        <p:blipFill>
          <a:blip r:embed="rId1"/>
          <a:srcRect l="0" t="0" r="2768" b="11383"/>
          <a:stretch/>
        </p:blipFill>
        <p:spPr>
          <a:xfrm>
            <a:off x="380880" y="609480"/>
            <a:ext cx="8026560" cy="5486400"/>
          </a:xfrm>
          <a:prstGeom prst="rect">
            <a:avLst/>
          </a:prstGeom>
          <a:ln w="0">
            <a:noFill/>
          </a:ln>
        </p:spPr>
      </p:pic>
      <p:sp>
        <p:nvSpPr>
          <p:cNvPr id="524" name="Oval 2"/>
          <p:cNvSpPr/>
          <p:nvPr/>
        </p:nvSpPr>
        <p:spPr>
          <a:xfrm>
            <a:off x="2209680" y="2666880"/>
            <a:ext cx="990720" cy="22860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3"/>
          <p:cNvSpPr/>
          <p:nvPr/>
        </p:nvSpPr>
        <p:spPr>
          <a:xfrm>
            <a:off x="3809880" y="2743200"/>
            <a:ext cx="838440" cy="15228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Box 4"/>
          <p:cNvSpPr/>
          <p:nvPr/>
        </p:nvSpPr>
        <p:spPr>
          <a:xfrm>
            <a:off x="3510360" y="838080"/>
            <a:ext cx="30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dd documents or fol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3" descr=""/>
          <p:cNvPicPr/>
          <p:nvPr/>
        </p:nvPicPr>
        <p:blipFill>
          <a:blip r:embed="rId1"/>
          <a:srcRect l="0" t="0" r="2344" b="6250"/>
          <a:stretch/>
        </p:blipFill>
        <p:spPr>
          <a:xfrm>
            <a:off x="304920" y="304920"/>
            <a:ext cx="8572320" cy="6172200"/>
          </a:xfrm>
          <a:prstGeom prst="rect">
            <a:avLst/>
          </a:prstGeom>
          <a:ln w="0">
            <a:noFill/>
          </a:ln>
        </p:spPr>
      </p:pic>
      <p:sp>
        <p:nvSpPr>
          <p:cNvPr id="528" name="Oval 3"/>
          <p:cNvSpPr/>
          <p:nvPr/>
        </p:nvSpPr>
        <p:spPr>
          <a:xfrm>
            <a:off x="2133720" y="2286000"/>
            <a:ext cx="1218960" cy="457200"/>
          </a:xfrm>
          <a:prstGeom prst="ellipse">
            <a:avLst/>
          </a:prstGeom>
          <a:noFill/>
          <a:ln w="381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4"/>
          <p:cNvSpPr/>
          <p:nvPr/>
        </p:nvSpPr>
        <p:spPr>
          <a:xfrm>
            <a:off x="1905120" y="1371600"/>
            <a:ext cx="1981080" cy="45720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3" descr=""/>
          <p:cNvPicPr/>
          <p:nvPr/>
        </p:nvPicPr>
        <p:blipFill>
          <a:blip r:embed="rId1"/>
          <a:srcRect l="0" t="0" r="3126" b="6250"/>
          <a:stretch/>
        </p:blipFill>
        <p:spPr>
          <a:xfrm>
            <a:off x="228600" y="304920"/>
            <a:ext cx="8458200" cy="6248160"/>
          </a:xfrm>
          <a:prstGeom prst="rect">
            <a:avLst/>
          </a:prstGeom>
          <a:ln w="0">
            <a:noFill/>
          </a:ln>
        </p:spPr>
      </p:pic>
      <p:sp>
        <p:nvSpPr>
          <p:cNvPr id="531" name="Oval 3"/>
          <p:cNvSpPr/>
          <p:nvPr/>
        </p:nvSpPr>
        <p:spPr>
          <a:xfrm>
            <a:off x="1981080" y="1371600"/>
            <a:ext cx="3657600" cy="53352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rcRect l="0" t="0" r="10936" b="14582"/>
          <a:stretch/>
        </p:blipFill>
        <p:spPr>
          <a:xfrm>
            <a:off x="228600" y="304920"/>
            <a:ext cx="8686800" cy="6248160"/>
          </a:xfrm>
          <a:prstGeom prst="rect">
            <a:avLst/>
          </a:prstGeom>
          <a:ln w="0">
            <a:noFill/>
          </a:ln>
        </p:spPr>
      </p:pic>
      <p:sp>
        <p:nvSpPr>
          <p:cNvPr id="533" name="Oval 3"/>
          <p:cNvSpPr/>
          <p:nvPr/>
        </p:nvSpPr>
        <p:spPr>
          <a:xfrm>
            <a:off x="3276720" y="1143000"/>
            <a:ext cx="2743200" cy="38088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535" name="Content Placeholder 3" descr=""/>
          <p:cNvPicPr/>
          <p:nvPr/>
        </p:nvPicPr>
        <p:blipFill>
          <a:blip r:embed="rId2"/>
          <a:srcRect l="0" t="0" r="74786" b="0"/>
          <a:stretch/>
        </p:blipFill>
        <p:spPr>
          <a:xfrm>
            <a:off x="533520" y="1981080"/>
            <a:ext cx="1143000" cy="262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6" name="Picture 4" descr=""/>
          <p:cNvPicPr/>
          <p:nvPr/>
        </p:nvPicPr>
        <p:blipFill>
          <a:blip r:embed="rId3"/>
          <a:stretch/>
        </p:blipFill>
        <p:spPr>
          <a:xfrm>
            <a:off x="2209680" y="2362320"/>
            <a:ext cx="2886120" cy="85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7" name="Picture 5" descr=""/>
          <p:cNvPicPr/>
          <p:nvPr/>
        </p:nvPicPr>
        <p:blipFill>
          <a:blip r:embed="rId4"/>
          <a:stretch/>
        </p:blipFill>
        <p:spPr>
          <a:xfrm>
            <a:off x="5867280" y="2286000"/>
            <a:ext cx="2562480" cy="93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8" name="Picture 6" descr=""/>
          <p:cNvPicPr/>
          <p:nvPr/>
        </p:nvPicPr>
        <p:blipFill>
          <a:blip r:embed="rId5"/>
          <a:stretch/>
        </p:blipFill>
        <p:spPr>
          <a:xfrm>
            <a:off x="2438280" y="4267080"/>
            <a:ext cx="2943360" cy="12319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"/>
          <p:cNvPicPr/>
          <p:nvPr/>
        </p:nvPicPr>
        <p:blipFill>
          <a:blip r:embed="rId6"/>
          <a:stretch/>
        </p:blipFill>
        <p:spPr>
          <a:xfrm>
            <a:off x="6019920" y="4952880"/>
            <a:ext cx="2752560" cy="609840"/>
          </a:xfrm>
          <a:prstGeom prst="rect">
            <a:avLst/>
          </a:prstGeom>
          <a:ln w="0">
            <a:noFill/>
          </a:ln>
        </p:spPr>
      </p:pic>
      <p:sp>
        <p:nvSpPr>
          <p:cNvPr id="540" name="Oval 8"/>
          <p:cNvSpPr/>
          <p:nvPr/>
        </p:nvSpPr>
        <p:spPr>
          <a:xfrm>
            <a:off x="457200" y="4114800"/>
            <a:ext cx="914400" cy="38088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Box 9"/>
          <p:cNvSpPr/>
          <p:nvPr/>
        </p:nvSpPr>
        <p:spPr>
          <a:xfrm>
            <a:off x="304920" y="1523880"/>
            <a:ext cx="25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Users and Gro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Box 10"/>
          <p:cNvSpPr/>
          <p:nvPr/>
        </p:nvSpPr>
        <p:spPr>
          <a:xfrm>
            <a:off x="2918160" y="2057400"/>
            <a:ext cx="182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Create 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Box 11"/>
          <p:cNvSpPr/>
          <p:nvPr/>
        </p:nvSpPr>
        <p:spPr>
          <a:xfrm>
            <a:off x="6342840" y="190512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Find 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Box 12"/>
          <p:cNvSpPr/>
          <p:nvPr/>
        </p:nvSpPr>
        <p:spPr>
          <a:xfrm>
            <a:off x="2838960" y="388620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Enroll 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Box 13"/>
          <p:cNvSpPr/>
          <p:nvPr/>
        </p:nvSpPr>
        <p:spPr>
          <a:xfrm>
            <a:off x="6036840" y="4038480"/>
            <a:ext cx="27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user is enroll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message will app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1"/>
          <p:cNvSpPr/>
          <p:nvPr/>
        </p:nvSpPr>
        <p:spPr>
          <a:xfrm>
            <a:off x="380880" y="22860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create a banner in PowerPoi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- Type bann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- Save as a JPE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2" descr=""/>
          <p:cNvPicPr/>
          <p:nvPr/>
        </p:nvPicPr>
        <p:blipFill>
          <a:blip r:embed="rId1"/>
          <a:srcRect l="25003" t="61462" r="17189" b="18750"/>
          <a:stretch/>
        </p:blipFill>
        <p:spPr>
          <a:xfrm>
            <a:off x="1143000" y="5029200"/>
            <a:ext cx="6172200" cy="15843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"/>
          <p:cNvPicPr/>
          <p:nvPr/>
        </p:nvPicPr>
        <p:blipFill>
          <a:blip r:embed="rId2"/>
          <a:stretch/>
        </p:blipFill>
        <p:spPr>
          <a:xfrm>
            <a:off x="2438280" y="2057400"/>
            <a:ext cx="3810240" cy="2895480"/>
          </a:xfrm>
          <a:prstGeom prst="rect">
            <a:avLst/>
          </a:prstGeom>
          <a:ln w="0">
            <a:noFill/>
          </a:ln>
        </p:spPr>
      </p:pic>
      <p:sp>
        <p:nvSpPr>
          <p:cNvPr id="549" name="Oval 4"/>
          <p:cNvSpPr/>
          <p:nvPr/>
        </p:nvSpPr>
        <p:spPr>
          <a:xfrm>
            <a:off x="3733920" y="2209680"/>
            <a:ext cx="609480" cy="30492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Oval 5"/>
          <p:cNvSpPr/>
          <p:nvPr/>
        </p:nvSpPr>
        <p:spPr>
          <a:xfrm>
            <a:off x="2514600" y="3505320"/>
            <a:ext cx="1676520" cy="45720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"/>
          <p:cNvPicPr/>
          <p:nvPr/>
        </p:nvPicPr>
        <p:blipFill>
          <a:blip r:embed="rId1"/>
          <a:srcRect l="0" t="0" r="1561" b="4168"/>
          <a:stretch/>
        </p:blipFill>
        <p:spPr>
          <a:xfrm>
            <a:off x="228600" y="228600"/>
            <a:ext cx="8686800" cy="6342120"/>
          </a:xfrm>
          <a:prstGeom prst="rect">
            <a:avLst/>
          </a:prstGeom>
          <a:ln w="0">
            <a:noFill/>
          </a:ln>
        </p:spPr>
      </p:pic>
      <p:cxnSp>
        <p:nvCxnSpPr>
          <p:cNvPr id="552" name="Straight Arrow Connector 3"/>
          <p:cNvCxnSpPr/>
          <p:nvPr/>
        </p:nvCxnSpPr>
        <p:spPr>
          <a:xfrm flipH="1">
            <a:off x="1142280" y="6248160"/>
            <a:ext cx="1220040" cy="153000"/>
          </a:xfrm>
          <a:prstGeom prst="straightConnector1">
            <a:avLst/>
          </a:prstGeom>
          <a:ln w="38160">
            <a:solidFill>
              <a:srgbClr val="b0ccb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Oval 2"/>
          <p:cNvSpPr/>
          <p:nvPr/>
        </p:nvSpPr>
        <p:spPr>
          <a:xfrm>
            <a:off x="1981080" y="2895480"/>
            <a:ext cx="2057400" cy="53352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4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143920" cy="4753080"/>
          </a:xfrm>
          <a:prstGeom prst="rect">
            <a:avLst/>
          </a:prstGeom>
          <a:ln w="0">
            <a:noFill/>
          </a:ln>
        </p:spPr>
      </p:pic>
      <p:sp>
        <p:nvSpPr>
          <p:cNvPr id="555" name="Oval 4"/>
          <p:cNvSpPr/>
          <p:nvPr/>
        </p:nvSpPr>
        <p:spPr>
          <a:xfrm>
            <a:off x="2133720" y="3124080"/>
            <a:ext cx="1904760" cy="60984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"/>
          <p:cNvPicPr/>
          <p:nvPr/>
        </p:nvPicPr>
        <p:blipFill>
          <a:blip r:embed="rId1"/>
          <a:srcRect l="0" t="7741" r="4724" b="2082"/>
          <a:stretch/>
        </p:blipFill>
        <p:spPr>
          <a:xfrm>
            <a:off x="157320" y="304920"/>
            <a:ext cx="8785080" cy="6248160"/>
          </a:xfrm>
          <a:prstGeom prst="rect">
            <a:avLst/>
          </a:prstGeom>
          <a:ln w="0">
            <a:noFill/>
          </a:ln>
        </p:spPr>
      </p:pic>
      <p:sp>
        <p:nvSpPr>
          <p:cNvPr id="557" name="Oval 2"/>
          <p:cNvSpPr/>
          <p:nvPr/>
        </p:nvSpPr>
        <p:spPr>
          <a:xfrm>
            <a:off x="1371600" y="2209680"/>
            <a:ext cx="2819520" cy="83844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Oval 3"/>
          <p:cNvSpPr/>
          <p:nvPr/>
        </p:nvSpPr>
        <p:spPr>
          <a:xfrm>
            <a:off x="5029200" y="1447920"/>
            <a:ext cx="3733920" cy="91440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4"/>
          <p:cNvSpPr/>
          <p:nvPr/>
        </p:nvSpPr>
        <p:spPr>
          <a:xfrm>
            <a:off x="5181480" y="5791320"/>
            <a:ext cx="3124440" cy="838080"/>
          </a:xfrm>
          <a:prstGeom prst="ellipse">
            <a:avLst/>
          </a:prstGeom>
          <a:noFill/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Rectangle 1" descr=""/>
          <p:cNvPicPr/>
          <p:nvPr/>
        </p:nvPicPr>
        <p:blipFill>
          <a:blip r:embed="rId1"/>
          <a:stretch/>
        </p:blipFill>
        <p:spPr>
          <a:xfrm>
            <a:off x="1427040" y="146160"/>
            <a:ext cx="7809120" cy="109224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2282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400"/>
              </a:spcBef>
              <a:buClr>
                <a:srgbClr val="b0ccb0"/>
              </a:buClr>
              <a:buSzPct val="9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Rockwell"/>
              </a:rPr>
              <a:t>Become aware of Jeff Davis Blackboard and Internet policies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36520">
              <a:spcBef>
                <a:spcPts val="400"/>
              </a:spcBef>
              <a:buClr>
                <a:srgbClr val="b0ccb0"/>
              </a:buClr>
              <a:buSzPct val="9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Rockwell"/>
              </a:rPr>
              <a:t>Utilize the basics of Blackboard to design a course/faculty site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36520">
              <a:spcBef>
                <a:spcPts val="400"/>
              </a:spcBef>
              <a:buClr>
                <a:srgbClr val="b0ccb0"/>
              </a:buClr>
              <a:buSzPct val="9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Rockwell"/>
              </a:rPr>
              <a:t>Use accepted instructional guidelines to develop and maintain their course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36520">
              <a:spcBef>
                <a:spcPts val="400"/>
              </a:spcBef>
              <a:buClr>
                <a:srgbClr val="b0ccb0"/>
              </a:buClr>
              <a:buSzPct val="9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Rockwell"/>
              </a:rPr>
              <a:t>Be able to upload documents and update their course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36520">
              <a:spcBef>
                <a:spcPts val="400"/>
              </a:spcBef>
              <a:buClr>
                <a:srgbClr val="b0ccb0"/>
              </a:buClr>
              <a:buSzPct val="9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Diagram 1" descr=""/>
          <p:cNvPicPr/>
          <p:nvPr/>
        </p:nvPicPr>
        <p:blipFill>
          <a:blip r:embed="rId1"/>
          <a:stretch/>
        </p:blipFill>
        <p:spPr>
          <a:xfrm>
            <a:off x="-463680" y="-6480"/>
            <a:ext cx="10150560" cy="6870960"/>
          </a:xfrm>
          <a:prstGeom prst="rect">
            <a:avLst/>
          </a:prstGeom>
          <a:ln w="0">
            <a:noFill/>
          </a:ln>
        </p:spPr>
      </p:pic>
      <p:sp>
        <p:nvSpPr>
          <p:cNvPr id="561" name="TextBox 2"/>
          <p:cNvSpPr/>
          <p:nvPr/>
        </p:nvSpPr>
        <p:spPr>
          <a:xfrm>
            <a:off x="2133720" y="144792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cussion Bo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ideas for pro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nstorm id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Box 3"/>
          <p:cNvSpPr/>
          <p:nvPr/>
        </p:nvSpPr>
        <p:spPr>
          <a:xfrm>
            <a:off x="4800600" y="137160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 a case stu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 a top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arguments and supporting ev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4"/>
          <p:cNvSpPr/>
          <p:nvPr/>
        </p:nvSpPr>
        <p:spPr>
          <a:xfrm>
            <a:off x="4800600" y="3581280"/>
            <a:ext cx="236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our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identifies areas for hel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s a plan for improv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go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- eval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Box 5"/>
          <p:cNvSpPr/>
          <p:nvPr/>
        </p:nvSpPr>
        <p:spPr>
          <a:xfrm>
            <a:off x="2286000" y="3657600"/>
            <a:ext cx="2133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i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summ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 glos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ng student writing for final pa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" descr=""/>
          <p:cNvPicPr/>
          <p:nvPr/>
        </p:nvPicPr>
        <p:blipFill>
          <a:blip r:embed="rId2"/>
          <a:stretch/>
        </p:blipFill>
        <p:spPr>
          <a:xfrm>
            <a:off x="6553080" y="2514600"/>
            <a:ext cx="1990800" cy="35337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"/>
          <p:cNvPicPr/>
          <p:nvPr/>
        </p:nvPicPr>
        <p:blipFill>
          <a:blip r:embed="rId3"/>
          <a:stretch/>
        </p:blipFill>
        <p:spPr>
          <a:xfrm>
            <a:off x="762120" y="2057400"/>
            <a:ext cx="4981320" cy="2238480"/>
          </a:xfrm>
          <a:prstGeom prst="rect">
            <a:avLst/>
          </a:prstGeom>
          <a:ln w="0">
            <a:noFill/>
          </a:ln>
        </p:spPr>
      </p:pic>
      <p:sp>
        <p:nvSpPr>
          <p:cNvPr id="568" name="TextBox 5"/>
          <p:cNvSpPr/>
          <p:nvPr/>
        </p:nvSpPr>
        <p:spPr>
          <a:xfrm>
            <a:off x="1224000" y="167652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reate a test or assig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6"/>
          <p:cNvSpPr/>
          <p:nvPr/>
        </p:nvSpPr>
        <p:spPr>
          <a:xfrm>
            <a:off x="6553440" y="205740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grade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Rectang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982800"/>
          </a:xfrm>
          <a:prstGeom prst="rect">
            <a:avLst/>
          </a:prstGeom>
          <a:ln w="0">
            <a:noFill/>
          </a:ln>
        </p:spPr>
      </p:pic>
      <p:pic>
        <p:nvPicPr>
          <p:cNvPr id="495" name="Content Placeholder 3" descr=""/>
          <p:cNvPicPr/>
          <p:nvPr/>
        </p:nvPicPr>
        <p:blipFill>
          <a:blip r:embed="rId2"/>
          <a:stretch/>
        </p:blipFill>
        <p:spPr>
          <a:xfrm>
            <a:off x="450720" y="1639800"/>
            <a:ext cx="824256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Title 1" descr=""/>
          <p:cNvPicPr/>
          <p:nvPr/>
        </p:nvPicPr>
        <p:blipFill>
          <a:blip r:embed="rId1"/>
          <a:stretch/>
        </p:blipFill>
        <p:spPr>
          <a:xfrm>
            <a:off x="603360" y="-725400"/>
            <a:ext cx="8169120" cy="225576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 txBox="1"/>
          <p:nvPr/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1"/>
                </a:solidFill>
                <a:latin typeface="Rockwell"/>
              </a:rPr>
              <a:t>http://www./copyright.gov/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609480" y="30492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ceddc"/>
                </a:solidFill>
                <a:latin typeface="Rockwell"/>
              </a:rPr>
              <a:t>Copyright Rules and Regulation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0620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Your nam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743040" indent="-7430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Your school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743040" indent="-7430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pecific name of your course(s)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743040" indent="-743040">
              <a:buClr>
                <a:srgbClr val="72a37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Karen Guidry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1"/>
                </a:solidFill>
                <a:latin typeface="Rockwell"/>
              </a:rPr>
              <a:t>Karen.guidry@jdpsbk12.org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743040" indent="-743040">
              <a:buClr>
                <a:srgbClr val="72a37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Rectangle 1" descr=""/>
          <p:cNvPicPr/>
          <p:nvPr/>
        </p:nvPicPr>
        <p:blipFill>
          <a:blip r:embed="rId1"/>
          <a:stretch/>
        </p:blipFill>
        <p:spPr>
          <a:xfrm>
            <a:off x="-36360" y="268200"/>
            <a:ext cx="9283680" cy="89064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buClr>
                <a:srgbClr val="72a37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ust be 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saved a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 the 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SV Comma Delimited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Type fil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18960" indent="-318960">
              <a:buClr>
                <a:srgbClr val="72a37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52280" y="2666880"/>
          <a:ext cx="8763120" cy="1887480"/>
        </p:xfrm>
        <a:graphic>
          <a:graphicData uri="http://schemas.openxmlformats.org/drawingml/2006/table">
            <a:tbl>
              <a:tblPr/>
              <a:tblGrid>
                <a:gridCol w="1981440"/>
                <a:gridCol w="990360"/>
                <a:gridCol w="1067040"/>
                <a:gridCol w="3794040"/>
                <a:gridCol w="93024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s.hhs.kguid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Guid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Kar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Staycle.duplichan@jdpsbk12.o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book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s.hhs.k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Rockwell"/>
                        </a:rPr>
                        <a:t>r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guid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Guid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Ka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Staycle.duplichan@jdpsbk12.o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penc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4" name="TextBox 10"/>
          <p:cNvSpPr/>
          <p:nvPr/>
        </p:nvSpPr>
        <p:spPr>
          <a:xfrm rot="16200000">
            <a:off x="-14760" y="4491360"/>
            <a:ext cx="221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alibri"/>
              </a:rPr>
              <a:t>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alibri"/>
              </a:rPr>
              <a:t>school’s 3 lett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alibri"/>
              </a:rPr>
              <a:t>First letter of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alibri"/>
              </a:rPr>
              <a:t>Last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11"/>
          <p:cNvSpPr/>
          <p:nvPr/>
        </p:nvSpPr>
        <p:spPr>
          <a:xfrm rot="16200000">
            <a:off x="1326960" y="49971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tudent’s last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Box 12"/>
          <p:cNvSpPr/>
          <p:nvPr/>
        </p:nvSpPr>
        <p:spPr>
          <a:xfrm rot="16200000">
            <a:off x="2454840" y="49363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tudent’s first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Box 13"/>
          <p:cNvSpPr/>
          <p:nvPr/>
        </p:nvSpPr>
        <p:spPr>
          <a:xfrm rot="16200000">
            <a:off x="4528080" y="4844160"/>
            <a:ext cx="25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eacher’s em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Box 14"/>
          <p:cNvSpPr/>
          <p:nvPr/>
        </p:nvSpPr>
        <p:spPr>
          <a:xfrm rot="16200000">
            <a:off x="7499160" y="51494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passw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Box 15"/>
          <p:cNvSpPr/>
          <p:nvPr/>
        </p:nvSpPr>
        <p:spPr>
          <a:xfrm>
            <a:off x="152280" y="3962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1"/>
                </a:solidFill>
                <a:latin typeface="Tw Cen MT"/>
              </a:rPr>
              <a:t>Middle init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Straight Arrow Connector 17"/>
          <p:cNvCxnSpPr/>
          <p:nvPr/>
        </p:nvCxnSpPr>
        <p:spPr>
          <a:xfrm flipV="1">
            <a:off x="838080" y="3733560"/>
            <a:ext cx="1533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-6480" y="249120"/>
            <a:ext cx="8948880" cy="10620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mail to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aycle Duplicha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aycle.duplichan@jdpsbk12.or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13" name="Picture 5" descr=""/>
          <p:cNvPicPr/>
          <p:nvPr/>
        </p:nvPicPr>
        <p:blipFill>
          <a:blip r:embed="rId2"/>
          <a:stretch/>
        </p:blipFill>
        <p:spPr>
          <a:xfrm>
            <a:off x="1905120" y="3733920"/>
            <a:ext cx="5924520" cy="1523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73876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839440" cy="5580360"/>
          </a:xfrm>
          <a:prstGeom prst="rect">
            <a:avLst/>
          </a:prstGeom>
          <a:ln w="0">
            <a:noFill/>
          </a:ln>
        </p:spPr>
      </p:pic>
      <p:pic>
        <p:nvPicPr>
          <p:cNvPr id="516" name="TextBox 3" descr=""/>
          <p:cNvPicPr/>
          <p:nvPr/>
        </p:nvPicPr>
        <p:blipFill>
          <a:blip r:embed="rId2"/>
          <a:stretch/>
        </p:blipFill>
        <p:spPr>
          <a:xfrm>
            <a:off x="463680" y="334800"/>
            <a:ext cx="8388360" cy="427320"/>
          </a:xfrm>
          <a:prstGeom prst="rect">
            <a:avLst/>
          </a:prstGeom>
          <a:ln w="0">
            <a:noFill/>
          </a:ln>
        </p:spPr>
      </p:pic>
      <p:cxnSp>
        <p:nvCxnSpPr>
          <p:cNvPr id="517" name="Straight Arrow Connector 5"/>
          <p:cNvCxnSpPr/>
          <p:nvPr/>
        </p:nvCxnSpPr>
        <p:spPr>
          <a:xfrm>
            <a:off x="8076960" y="762120"/>
            <a:ext cx="108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12:49:19Z</dcterms:created>
  <dc:creator/>
  <dc:description/>
  <cp:keywords/>
  <dc:language>en-US</dc:language>
  <cp:lastModifiedBy/>
  <dcterms:modified xsi:type="dcterms:W3CDTF">2012-10-03T15:46:0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9990</vt:lpwstr>
  </property>
</Properties>
</file>